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9AFB-CF2B-4A1E-86E6-6B55CCA7F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DEB4-E6C8-4835-82B0-78B7DE7C3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75838B-A0AA-452C-A686-0F5A107E1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E3133C-BB68-4107-A19D-48F480364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DD1A3E-D616-45A7-A986-9BA7D824A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0075E7-6E7A-41F0-962D-7ACD55EA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E151BD-1511-40CB-866F-B6283CAE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72BCCA-6413-42E8-8FFD-EE181BC6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FB7D15-DE5A-4AFD-9730-D395A5E8A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9D1C32-2D06-4F1A-AAF2-1BE26D139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0F7E5C-0395-4BDC-B390-ADD78D50B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D65950-463C-4839-A3B3-E87EB1E25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BD6B-EAF8-499F-9542-9258CC05B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D6C2D9-3E37-499D-B1E9-C6FF3442E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DBA1E3-A919-4337-A3FC-E9CD1AF85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4E77EE-C975-4BA2-8329-474179A2A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7C374E-47A8-42E3-988A-118C96072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A37749-9A5F-460E-94AB-4F66E6F91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34A2E2-3A98-4921-9554-A2C87168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7461BF-1C98-49E4-B5A9-D282F840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E8A5B4-7A7C-4558-8FBE-E38042C5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E2229F-BD10-44C1-A7C1-582A8B718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F3BFA5-640A-44B9-950D-CECABDB1E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30E6-EBC0-40B4-B1A0-B7D0E10DC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DCA685-1CD9-4327-A6B4-63C753CA4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47D72C5-5956-4E30-8B5F-06ACC85F6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9E9E3E3-01E2-4F22-8F37-CEFACBF1C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867C489-C490-4A0C-9433-3750C6E23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53FE69D-49E5-40C9-AE07-F8AAF0544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2867FAA-2AF7-47B7-ADFC-A154B379A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7627CEC-5F8E-4038-9E32-787560E0A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BF8F2D0-05B9-4806-BEB2-A78C7366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284ABE3-8BC8-4322-97C2-4C25D08D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BAB0F70-AC2C-4E41-A09A-D71BD343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8BE7990-6341-4CCD-B577-02206916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690699E-35A9-4F3C-B06E-26B8B4835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B8BF7F4-817A-4EA0-98D7-6F8821997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813EF9-6BA2-42AB-98A7-85D7B6EA9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D3492F-CA58-42F8-B078-4DA047898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C9AFBC-59D2-460D-AA66-04DF26D88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1E9411-B35A-417C-B4D1-3C5D1A9C9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19A12F-ED9F-4269-B2D7-CB2F4F7F7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FFDD17-8119-4ADB-BCA5-29AD05A52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02DA41-608B-4447-9089-291DC226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E719AC-0C32-4FA1-AB72-EFFB975D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5C1E12-C967-4AD8-B79C-27393DC0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9BC17D-1EE7-4536-8E43-31A3D1BB0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8C097E-E78F-475C-9DDF-C76F10945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F4BEE9-E375-4E7D-A61A-7EDA195B2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4FD9C5D-9223-4626-A693-99EE4AA42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9EF6386-D6C2-4B83-926B-21557615C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6D1F947-C79D-4714-B12A-972E06447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7F81DA0-C8A9-44B0-B440-1860254A4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CA89168-386E-4215-9FED-1DD8113C7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A1C48C3-3A54-4B5D-8078-28393C67D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4590C9D-1D4F-479D-AE4D-A04823B7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CCD4E5B-CEA0-4BEB-9725-76A6A8F4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6B13261-4456-43F3-9FCC-D7EC966B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54C6D77-590A-46C3-8D27-704DA79ED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23B01CB-A0DA-4DC7-91A9-B2F89D436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A580777-AFE2-4F50-A6CA-162D2C268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BB938B-AF34-4976-A21C-A432C0838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1DF9BD-DFA3-43D5-94A1-E0070B914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C20343-FA58-424B-9FFE-F080507B9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287ABD-FA34-4EC3-8F87-3F14DDEDC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0D7339-FFBD-4D3A-AD6C-F603DB661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C36664-9CFF-4FD1-9BAA-69B042E54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BF0EFC-1ACE-49EA-A7E9-D7E52C1D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ACF7B3-0578-4F49-848B-648D5F64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3E2E45-EC43-4BFE-9759-2DE1F7FB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03BA59-03F0-46BA-B4A1-456FBD7A9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60A4A0-C782-420F-86C1-ACEF7A6FE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296735-6C19-45CF-9CC9-AAF587727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F3027B-0AAB-4C79-A35B-81AB2FCEC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DEFC68-9BF2-4C79-8B82-056FE6EB2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2E1CB0-3084-47C4-A159-37A63E292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961283-F749-4FE2-A288-0BB7DE73A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B8E320-AA1E-4145-BDA5-983ECE5F3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A6D37B-173E-43BC-A395-B53506D03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7D2F83-8D96-4AD3-BFEE-334DBCCB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9CCB20-A0D1-4E91-BCCD-DF2B5D56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B1E1BF-8AB2-4B5E-9A34-CFE93189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048AC9-3A2E-471E-A876-1265C46C7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6116FF-838A-4C39-AAE7-26B15B4BA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0E024A-3F47-4656-A861-F2456BC55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9886B3-B9C9-4F49-9B6B-60C1C8B70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D610EA-32AA-4414-A605-C98E804FB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21843F-3AE6-4417-A8A0-8B8AE297A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B4B5A7-4BAB-43B2-BEE0-650F8EC0F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B9F6D9-A799-4A0D-8BB0-58351BD92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644D17-71C9-477C-9FCB-1B2234CBE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650CB5-60DE-4927-A76B-86550547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60B0-4202-4657-92CF-D11476DC8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D26FA8-B0AB-4F8A-BE31-6AC9A30C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792A9D-8EEC-4C8C-B4E5-6B245353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A2DA57-E5B5-4D8D-916C-67BD4313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214CCE-2E3B-4EB6-BFE7-0026CDB68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415AF7-D08F-4828-AA5F-2563D116C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529801-DF6E-4E2D-8612-FDECD0B8D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0BD0DB-CB0D-4014-9909-11DA66262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7B0B55-DF16-45AD-B219-4C4AB6994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30D417-7E3B-4DA2-BDCC-D201F3F40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F5EE87-7E38-4272-83F6-4B297C748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891D83-B79F-4E16-A320-AB6DBF847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9A308D-FFEB-4CCD-9E05-7DE7D30C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0BDEE2-C4F6-4E17-8490-D130155C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516899-7161-4E2C-9DD0-584B15D0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75C56A-1D32-4561-9C75-8C424D8C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7F73AA-6EDE-4EFB-9E7F-3760CABC7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EF206D-1647-4F1E-AAA2-3B4FD811C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917433-DE3A-45E1-B1CF-CD1C9CB49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E20D14-585E-4508-8DCC-41747770D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CDDF78-F843-4912-9D62-A67096D61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14DBD7-03E3-4C5E-88D7-6967A38E6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6AECC1-19C1-4E96-801B-88190B3E5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8B9C03-3B73-4BDB-A5B5-E02A2E186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74C33D-D5FC-45E6-BC12-E5780F36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4CAF31-440B-45B4-BA75-63327D89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4DEB19-A272-46EE-8AAA-2835FF66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E38885-4950-46D1-AA40-51F7D0BC4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144FA0-B2A5-4DEF-BD5A-BB4082296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BA670E-EF80-4132-8A35-A765C1861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E1684D-6E92-442C-93CA-288033D41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E1C3C1-9927-4E51-A2A2-CFFD92F49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3D7FE7-5C9E-4E5B-8B79-5177D5B8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064DEF-8D35-4656-B4EC-1C412E8BB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B86F75-8BB3-434C-8C39-5CB647ECD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F3FBA1-70B0-48AA-92AA-80D3B73CA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23271F-DA25-431D-B483-800BA70D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1C3B71-FF21-47FC-B4D1-6155C37F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43408F-A22B-4052-87EA-6AB429CC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44478F-1016-4233-B57F-FAA881A83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64E361-FAE5-47D1-A4B6-BD698A76A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E5576E-7B46-4A76-8335-BF9E04973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097EAC-301A-4BAF-8ADF-3D215A9C5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3A6B58-0C5E-4A5E-BC5B-810E6EFEE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D97788-248F-4213-9239-CFB808E51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C2C61C-9020-4912-9F30-0F114DA45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03C01A-80F6-4E2D-B4BC-47E961452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162E46-6020-4F03-8EAB-8E75A513E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E8E730-0273-4927-B90C-465D0EC0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1BABCB-0A89-4344-9A59-CC432A1D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F4809F-BE3D-41B6-B465-0AF29154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188154-3E02-4368-B221-ACDABBA25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D6C4E3-5929-4430-9234-337A38FB3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E92981-5BD8-4343-84C5-856C928FC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8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9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78ED83-1CEA-4BAA-9341-3609AB758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3AD121-B861-41E3-9987-423E90AEC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C9216D-51A8-4008-B0B3-759192651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E1BA8F-4EDF-4045-BC19-36B5A551A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74D877-DD98-4E1B-8C94-81433D414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48C2-3904-47DE-9031-7E83F08FD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168CD3-3DF8-431B-8B4F-3676C6C17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6453F0-F419-432F-98B3-7A4D1682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7F74AD-F72C-4DAB-A476-E4E9EA02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0C5BBF-3C6A-4167-BE9B-9EBD5A19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CAEA0D-90E6-45ED-81E0-0D00DFA68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7C0934-3909-41B1-80E0-CB94A7B67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AC5344-16BB-408E-8A6D-1D7B37563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04FD52-CA30-46CB-A23F-E2997AE40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002667-7208-4FB5-8483-5894E9FB2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3A9055-5D46-430D-AF03-0F2F73EE5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9B7D-8A7D-485B-B9B2-BE5765826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791DC0-6E74-4E02-BE09-E95E51EE0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43D3F6-EC19-4F5C-8187-90D25BF6E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4819E9-44E7-4588-BCBE-8853E5E29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FFE44B-952F-42F1-9EB9-04F34CF2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4473A2-47E4-49A1-B076-257A5878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FF7A89-CF44-42FD-B6E6-DA898E55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36032D-0D4F-4B91-A6F7-16DDDDE55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EF371C-1585-4BB5-9590-29E726FC0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239999-6CA9-4210-8CE6-109094267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6D75-EB46-4246-A9F1-A7D5CD285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1F7D-A8AD-45A2-9F6C-3809592D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5153212-0374-4A80-83E1-807A44FA8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9AF3A1-2FA3-4C16-88F6-99F671745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3484E0-1844-4F3F-A399-E9F47A861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47444E-6811-4DB8-AB28-7B842889E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83DC7A-EBCB-41E7-9300-4D4B76D02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753D6E-ED69-4425-92A2-EF02E53C2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BB0BDE-1502-4588-AF0C-A2EEB19A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BF8469-492F-4710-8E4A-05442F92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D310E6-56D1-46D1-8EF5-4C332FD2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8ADF-70FE-44ED-ACE1-7E7D6B2B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2307DB-1A27-4691-9C5B-19579F3F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C1F7DF-1119-4BCD-AD7A-1DC9B424E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2FB26D-2942-4348-B5A9-B5433605D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CFA5BFE-ACF9-4428-8333-BBFAB40F8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46B5F3-3299-4CD8-8D77-0B4C6E127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2156BE-162C-4625-BBD6-C703F139E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1BCBF89-B36D-4523-AB08-00DB72419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C9B302D-9259-4EDB-A408-3BDCCE683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632AF37-663B-4776-A727-82045BBBF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163F128-2B6D-45C5-8D1E-CE90A056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E273-41A6-47FE-9EFA-AD68C9AA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07EE8D9-AF46-4918-9DF9-D3C939AA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EE0B93F-8736-4671-BF57-9361F740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BCCFE9F-B693-48A4-8809-32D870835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EF94DDA-475B-45B3-9857-D329813BF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884CF55-1425-4F09-96B4-DD1889AB2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315DE1B-DDF0-44C3-8ED1-18C8E4624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75479B8-00E1-4159-85E6-B2F282491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6C33F6D-6F0A-49F4-AFA5-D1C425D8D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5462EFA-5674-44C0-A3A2-4F34AEB0E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430638F-386C-485B-8BF5-85A7CB857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9C6D-98EA-4D34-9AAF-D3510471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FAC9F8-BADD-4487-958A-B711D078F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FD8A78A-5E51-4998-B52D-BFB08FC8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5E01D6E-9243-44AF-8AA1-D25ED7AC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04B988B-6F0F-4F7E-AAC4-BD563415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6437B14-780A-4288-A48F-48EF57F67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B98CD20-166E-4031-9044-8C23A12DA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66744F8-C118-4219-AC18-DE489AF74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0798CC-2A31-4D4A-A7C1-2BE9051B7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681D83-2B62-41C5-8E27-28114872A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65C413-B2F4-4F13-A438-91E8FB3D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A25C05-7DB4-494A-B1BA-28C0A60337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93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26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27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2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AAA16A-1572-4028-8443-5FDC1E1D35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36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29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0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C715EA-15D1-4947-B1C4-0C6A46DE3C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79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32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ftr" idx="33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sldNum" idx="34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91AF9A-88DE-4572-BAAD-E7526C0F7D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5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6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7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42D8B2-50D6-4604-8AF7-473FFB3842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6"/>
          <p:cNvSpPr/>
          <p:nvPr/>
        </p:nvSpPr>
        <p:spPr>
          <a:xfrm>
            <a:off x="282600" y="228600"/>
            <a:ext cx="345132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64" name="TextBox 7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8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9"/>
          </p:nvPr>
        </p:nvSpPr>
        <p:spPr>
          <a:xfrm>
            <a:off x="3859200" y="6423120"/>
            <a:ext cx="3316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06" name="TextBox 7"/>
          <p:cNvSpPr/>
          <p:nvPr/>
        </p:nvSpPr>
        <p:spPr>
          <a:xfrm>
            <a:off x="3989520" y="337032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b870b8"/>
                </a:solidFill>
                <a:latin typeface="Rockwel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0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1"/>
          </p:nvPr>
        </p:nvSpPr>
        <p:spPr>
          <a:xfrm>
            <a:off x="4190760" y="6423120"/>
            <a:ext cx="300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2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824D08-ADE7-43B9-8AD8-C1F7175F56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6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49" name="Rectangle 7"/>
          <p:cNvSpPr/>
          <p:nvPr/>
        </p:nvSpPr>
        <p:spPr>
          <a:xfrm>
            <a:off x="6802560" y="2378160"/>
            <a:ext cx="2057400" cy="203832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50" name="TextBox 8"/>
          <p:cNvSpPr/>
          <p:nvPr/>
        </p:nvSpPr>
        <p:spPr>
          <a:xfrm>
            <a:off x="326880" y="463248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b870b8"/>
                </a:solidFill>
                <a:latin typeface="Rockwel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3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4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5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384373-2EE8-4319-8B56-8B6BBAAAA1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6"/>
          <p:cNvSpPr/>
          <p:nvPr/>
        </p:nvSpPr>
        <p:spPr>
          <a:xfrm>
            <a:off x="282600" y="228600"/>
            <a:ext cx="638640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93" name="TextBox 7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94" name="Rectangle 8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6"/>
          </p:nvPr>
        </p:nvSpPr>
        <p:spPr>
          <a:xfrm>
            <a:off x="5211720" y="6235200"/>
            <a:ext cx="1349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47"/>
          </p:nvPr>
        </p:nvSpPr>
        <p:spPr>
          <a:xfrm>
            <a:off x="380880" y="6235200"/>
            <a:ext cx="4648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4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EEC8AB-CCB7-48F1-ACAC-4027C762C7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6"/>
          <p:cNvSpPr/>
          <p:nvPr/>
        </p:nvSpPr>
        <p:spPr>
          <a:xfrm>
            <a:off x="282600" y="228600"/>
            <a:ext cx="423540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37" name="TextBox 7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38" name="Rectangle 8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39" name="Rectangle 9"/>
          <p:cNvSpPr/>
          <p:nvPr/>
        </p:nvSpPr>
        <p:spPr>
          <a:xfrm>
            <a:off x="4624560" y="453564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9"/>
          </p:nvPr>
        </p:nvSpPr>
        <p:spPr>
          <a:xfrm>
            <a:off x="3048120" y="6235200"/>
            <a:ext cx="1347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0"/>
          </p:nvPr>
        </p:nvSpPr>
        <p:spPr>
          <a:xfrm>
            <a:off x="380520" y="6235200"/>
            <a:ext cx="259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C7203F-1638-466F-BAC3-D71DB3602B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82" name="TextBox 7"/>
          <p:cNvSpPr/>
          <p:nvPr/>
        </p:nvSpPr>
        <p:spPr>
          <a:xfrm>
            <a:off x="4749840" y="337032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b870b8"/>
                </a:solidFill>
                <a:latin typeface="Rockwel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dt" idx="52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ftr" idx="53"/>
          </p:nvPr>
        </p:nvSpPr>
        <p:spPr>
          <a:xfrm>
            <a:off x="4190760" y="6423120"/>
            <a:ext cx="300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 type="sldNum" idx="54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D93746-95C2-443B-AC8F-8666F57725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282600" y="228600"/>
            <a:ext cx="4235400" cy="41878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4624560" y="237816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4" name="TextBox 9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4624560" y="228600"/>
            <a:ext cx="2057400" cy="2038320"/>
          </a:xfrm>
          <a:prstGeom prst="rect">
            <a:avLst/>
          </a:prstGeom>
          <a:solidFill>
            <a:srgbClr val="a3a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6802560" y="2378160"/>
            <a:ext cx="2057400" cy="2038320"/>
          </a:xfrm>
          <a:prstGeom prst="rect">
            <a:avLst/>
          </a:prstGeom>
          <a:solidFill>
            <a:srgbClr val="330f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800600" y="6426360"/>
            <a:ext cx="12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311520" y="6426360"/>
            <a:ext cx="261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25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55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56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57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D295A0-D5D0-4D43-A00B-C2ED122DDD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68" name="TextBox 7"/>
          <p:cNvSpPr/>
          <p:nvPr/>
        </p:nvSpPr>
        <p:spPr>
          <a:xfrm rot="16200000">
            <a:off x="8591400" y="5634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58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ftr" idx="59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 type="sldNum" idx="60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173122-B4CD-487B-8FF9-799C5E1817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8210520" y="282600"/>
            <a:ext cx="64152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8067600" y="282600"/>
            <a:ext cx="92160" cy="16002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6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7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40768D-875B-40E6-A868-D962196FE4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2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9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0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431EEB-5224-4E15-9E10-98ECF28697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282600" y="228600"/>
            <a:ext cx="4235400" cy="41878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4624560" y="237816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7" name="TextBox 9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2"/>
          </p:nvPr>
        </p:nvSpPr>
        <p:spPr>
          <a:xfrm>
            <a:off x="4800600" y="6426360"/>
            <a:ext cx="12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3"/>
          </p:nvPr>
        </p:nvSpPr>
        <p:spPr>
          <a:xfrm>
            <a:off x="6311520" y="6426360"/>
            <a:ext cx="261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6"/>
          <p:cNvSpPr/>
          <p:nvPr/>
        </p:nvSpPr>
        <p:spPr>
          <a:xfrm>
            <a:off x="658800" y="228600"/>
            <a:ext cx="820116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9" name="TextBox 7"/>
          <p:cNvSpPr/>
          <p:nvPr/>
        </p:nvSpPr>
        <p:spPr>
          <a:xfrm>
            <a:off x="2003400" y="3111480"/>
            <a:ext cx="260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285840" y="228600"/>
            <a:ext cx="212760" cy="634536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4"/>
          </p:nvPr>
        </p:nvSpPr>
        <p:spPr>
          <a:xfrm>
            <a:off x="658440" y="6248520"/>
            <a:ext cx="147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5"/>
          </p:nvPr>
        </p:nvSpPr>
        <p:spPr>
          <a:xfrm>
            <a:off x="2285640" y="6248520"/>
            <a:ext cx="5638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6"/>
          </p:nvPr>
        </p:nvSpPr>
        <p:spPr>
          <a:xfrm>
            <a:off x="8305560" y="6248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0CAAE5-B198-4A4A-8A01-C8C3AF8A4D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6"/>
          <p:cNvSpPr/>
          <p:nvPr/>
        </p:nvSpPr>
        <p:spPr>
          <a:xfrm>
            <a:off x="8210520" y="282600"/>
            <a:ext cx="64152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8067600" y="282600"/>
            <a:ext cx="92160" cy="16002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64" name="TextBox 8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7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8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9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D1A103-040A-4193-954D-EE59229B8B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07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0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1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2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AD6F80-ACDA-4CFD-BB05-033BB1C040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6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3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4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5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9F8182-216F-4A2F-A6AE-EC144DFA6E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800600" y="4624560"/>
            <a:ext cx="4038480" cy="93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66"/>
                </a:solidFill>
                <a:latin typeface="Rockwell"/>
              </a:rPr>
              <a:t>Conjunctions</a:t>
            </a:r>
            <a:endParaRPr b="0" lang="en-US" sz="28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subTitle"/>
          </p:nvPr>
        </p:nvSpPr>
        <p:spPr>
          <a:xfrm>
            <a:off x="4800600" y="5562360"/>
            <a:ext cx="403848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Rockwell"/>
              </a:rPr>
              <a:t>For ELS by Katy SALGADO</a:t>
            </a:r>
            <a:endParaRPr b="0" lang="en-US" sz="1100" spc="-1" strike="noStrike">
              <a:solidFill>
                <a:srgbClr val="595959"/>
              </a:solidFill>
              <a:latin typeface="Rockwel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Rockwell"/>
              </a:rPr>
              <a:t>SPECIFIC TO THE STUDENTS AT INTERMEDIATE LEVEL</a:t>
            </a:r>
            <a:endParaRPr b="0" lang="en-US" sz="1100" spc="-1" strike="noStrike">
              <a:solidFill>
                <a:srgbClr val="595959"/>
              </a:solidFill>
              <a:latin typeface="Rockwel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Rockwell"/>
              </a:rPr>
              <a:t>To Camptown Ladies and Old McDonald</a:t>
            </a:r>
            <a:endParaRPr b="0" lang="en-US" sz="11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12" name="TextBox 3"/>
          <p:cNvSpPr/>
          <p:nvPr/>
        </p:nvSpPr>
        <p:spPr>
          <a:xfrm>
            <a:off x="2178000" y="142092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</a:rPr>
              <a:t>BECAUSE</a:t>
            </a: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13" name="TextBox 4"/>
          <p:cNvSpPr/>
          <p:nvPr/>
        </p:nvSpPr>
        <p:spPr>
          <a:xfrm>
            <a:off x="5517360" y="13539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</a:rPr>
              <a:t>SO</a:t>
            </a: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14" name="TextBox 5"/>
          <p:cNvSpPr/>
          <p:nvPr/>
        </p:nvSpPr>
        <p:spPr>
          <a:xfrm>
            <a:off x="7421040" y="1587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</a:rPr>
              <a:t>SINCE</a:t>
            </a: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15" name="TextBox 6"/>
          <p:cNvSpPr/>
          <p:nvPr/>
        </p:nvSpPr>
        <p:spPr>
          <a:xfrm>
            <a:off x="5536080" y="3308400"/>
            <a:ext cx="6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16" name="TextBox 7"/>
          <p:cNvSpPr/>
          <p:nvPr/>
        </p:nvSpPr>
        <p:spPr>
          <a:xfrm>
            <a:off x="7098480" y="364320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</a:rPr>
              <a:t>ALTHOUGH</a:t>
            </a: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50880" y="352440"/>
            <a:ext cx="2751120" cy="56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CAUSE</a:t>
            </a:r>
            <a:endParaRPr b="0" lang="en-US" sz="2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4168800" y="352080"/>
            <a:ext cx="4597200" cy="60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EFFECT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Rockwell"/>
              </a:rPr>
              <a:t>So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 I slept.  So I slept. So I slept.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Rockwell"/>
              </a:rPr>
              <a:t>So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 I slept. Now I’m feeling better. 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Rockwell"/>
              </a:rPr>
              <a:t>So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 she ate, so she ate, so she ate.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Rockwell"/>
              </a:rPr>
              <a:t>So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 she ate.  Now her stomache’s full.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Rockwell"/>
              </a:rPr>
              <a:t>So </a:t>
            </a: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_______    _______.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pronoun  verb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380520" y="1111320"/>
            <a:ext cx="3256200" cy="50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I  was tired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I  was tired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She was hungry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She was hungry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_____ was</a:t>
            </a:r>
            <a:r>
              <a:rPr b="0" lang="en-US" sz="2400" spc="-1" strike="noStrike">
                <a:solidFill>
                  <a:srgbClr val="ff0000"/>
                </a:solidFill>
                <a:latin typeface="Rockwell"/>
              </a:rPr>
              <a:t>______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Pronoun </a:t>
            </a:r>
            <a:r>
              <a:rPr b="0" lang="en-US" sz="2400" spc="-1" strike="noStrike">
                <a:solidFill>
                  <a:srgbClr val="ff0000"/>
                </a:solidFill>
                <a:latin typeface="Rockwell"/>
              </a:rPr>
              <a:t>  adjective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50880" y="352440"/>
            <a:ext cx="2751120" cy="56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CAUSE</a:t>
            </a:r>
            <a:endParaRPr b="0" lang="en-US" sz="2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4168800" y="352440"/>
            <a:ext cx="459720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EFFECT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I slept. Now I’m feeling better. 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she ate. Now her stomache’s full.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I took Marley to the beach. Now we’re having fun.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_______    _______. Now………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pronoun  verb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380520" y="1539360"/>
            <a:ext cx="3256200" cy="480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Rockwell"/>
              </a:rPr>
              <a:t>Since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I  was tired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Rockwell"/>
              </a:rPr>
              <a:t>Since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she was hungry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Rockwell"/>
              </a:rPr>
              <a:t>Since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it was hot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Rockwell"/>
              </a:rPr>
              <a:t>Since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_____ was</a:t>
            </a:r>
            <a:r>
              <a:rPr b="0" lang="en-US" sz="2400" spc="-1" strike="noStrike">
                <a:solidFill>
                  <a:srgbClr val="ff0000"/>
                </a:solidFill>
                <a:latin typeface="Rockwell"/>
              </a:rPr>
              <a:t>______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Pronoun </a:t>
            </a:r>
            <a:r>
              <a:rPr b="0" lang="en-US" sz="2000" spc="-1" strike="noStrike">
                <a:solidFill>
                  <a:srgbClr val="ff0000"/>
                </a:solidFill>
                <a:latin typeface="Rockwell"/>
              </a:rPr>
              <a:t>  adjective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23" name="TextBox 8"/>
          <p:cNvSpPr/>
          <p:nvPr/>
        </p:nvSpPr>
        <p:spPr>
          <a:xfrm>
            <a:off x="2790720" y="53784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50880" y="352440"/>
            <a:ext cx="2751120" cy="56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CAUSE</a:t>
            </a:r>
            <a:endParaRPr b="0" lang="en-US" sz="2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4168800" y="352080"/>
            <a:ext cx="4597200" cy="60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EFFECT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Rockwell"/>
              </a:rPr>
              <a:t>Therefore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 I slept.  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Rockwell"/>
              </a:rPr>
              <a:t>Therefore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 I slept. Now I’m feeling better. 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Rockwell"/>
              </a:rPr>
              <a:t>Therefore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 she ate.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Rockwell"/>
              </a:rPr>
              <a:t>Therefore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 she ate.  Now her stomache’s full.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Rockwell"/>
              </a:rPr>
              <a:t>Therefore </a:t>
            </a: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_______    _______.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pronoun   verb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380520" y="917640"/>
            <a:ext cx="325620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I  was tired.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I  was tired.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She was hungry.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She was hungry.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_____ was</a:t>
            </a:r>
            <a:r>
              <a:rPr b="0" lang="en-US" sz="2400" spc="-1" strike="noStrike">
                <a:solidFill>
                  <a:srgbClr val="ff0000"/>
                </a:solidFill>
                <a:latin typeface="Rockwell"/>
              </a:rPr>
              <a:t>______.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Pronoun </a:t>
            </a:r>
            <a:r>
              <a:rPr b="0" lang="en-US" sz="2400" spc="-1" strike="noStrike">
                <a:solidFill>
                  <a:srgbClr val="ff0000"/>
                </a:solidFill>
                <a:latin typeface="Rockwell"/>
              </a:rPr>
              <a:t>  adjective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50880" y="352440"/>
            <a:ext cx="2751120" cy="56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Effect</a:t>
            </a:r>
            <a:endParaRPr b="0" lang="en-US" sz="2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28" name=""/>
          <p:cNvSpPr txBox="1"/>
          <p:nvPr/>
        </p:nvSpPr>
        <p:spPr>
          <a:xfrm>
            <a:off x="4168800" y="352080"/>
            <a:ext cx="4597200" cy="60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Cause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Rockwell"/>
              </a:rPr>
              <a:t>Because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 I  was tired.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Rockwell"/>
              </a:rPr>
              <a:t>Because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 I  was tired. Now I’m feeling better. 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Rockwell"/>
              </a:rPr>
              <a:t>Because 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she was hungry.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Rockwell"/>
              </a:rPr>
              <a:t>Because </a:t>
            </a:r>
            <a:r>
              <a:rPr b="0" lang="en-US" sz="2400" spc="-1" strike="noStrike">
                <a:solidFill>
                  <a:srgbClr val="262626"/>
                </a:solidFill>
                <a:latin typeface="Rockwell"/>
              </a:rPr>
              <a:t>s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he was hungry. Now her stomache’s full.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Rockwell"/>
              </a:rPr>
              <a:t>Because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_____ was</a:t>
            </a:r>
            <a:r>
              <a:rPr b="0" lang="en-US" sz="2400" spc="-1" strike="noStrike">
                <a:solidFill>
                  <a:srgbClr val="ff0000"/>
                </a:solidFill>
                <a:latin typeface="Rockwell"/>
              </a:rPr>
              <a:t>______.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              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Pronoun </a:t>
            </a:r>
            <a:r>
              <a:rPr b="0" lang="en-US" sz="2400" spc="-1" strike="noStrike">
                <a:solidFill>
                  <a:srgbClr val="ff0000"/>
                </a:solidFill>
                <a:latin typeface="Rockwell"/>
              </a:rPr>
              <a:t>  adjective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380520" y="917640"/>
            <a:ext cx="325620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I slept.  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I slept. 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She ate.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She ate.  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_______    _______.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pronoun      verb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380880" y="2601000"/>
            <a:ext cx="32544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4168800" y="272520"/>
            <a:ext cx="459720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380520" y="3733560"/>
            <a:ext cx="325620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4T18:58:17Z</dcterms:created>
  <dc:creator>City School</dc:creator>
  <dc:description/>
  <dc:language>en-US</dc:language>
  <cp:lastModifiedBy>122790</cp:lastModifiedBy>
  <dcterms:modified xsi:type="dcterms:W3CDTF">2011-07-07T21:22:41Z</dcterms:modified>
  <cp:revision>13</cp:revision>
  <dc:subject/>
  <dc:title>Conjunctions</dc:title>
</cp:coreProperties>
</file>